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timierte Quick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2116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xtrins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ystem betroff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5120" y="54936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ptimierte Quick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28880" y="549360"/>
            <a:ext cx="56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ptimierte Quick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xtrinsisches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System betroff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itamin-K-Wirk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itamin-K-Mange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3"/>
            <a:endCxn id="154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6012000" y="352116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3040" y="549360"/>
            <a:ext cx="610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optimierte Quick ↑ &gt; extrinsisches System betroffen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Vitamin-K-Wirkung ↓ &gt; Vitamin-K-Mangel &gt; Bildung ↓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Leber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6" idx="3"/>
            <a:endCxn id="15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zirrh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ymph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104" idx="3"/>
            <a:endCxn id="105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xtrins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ystem betroff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55160" y="549360"/>
            <a:ext cx="53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ptimierte Quick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xtrinsisches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System betroff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itamin-K-Wirk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tamin-K-Wirkung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54800" y="549360"/>
            <a:ext cx="55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ptimierte Quick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xtrinsisches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System betroff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itamin-K-Wirkung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5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3"/>
            <a:endCxn id="11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2" name=""/>
          <p:cNvCxnSpPr>
            <a:stCxn id="108" idx="3"/>
            <a:endCxn id="113" idx="1"/>
          </p:cNvCxnSpPr>
          <p:nvPr/>
        </p:nvCxnSpPr>
        <p:spPr>
          <a:xfrm>
            <a:off x="3313080" y="4080960"/>
            <a:ext cx="2689920" cy="6786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kompetitiv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 Hemm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von Vitamin 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419724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Vitamin-K-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mpetitive Hemm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n Vitamin 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5" idx="3"/>
            <a:endCxn id="117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8" name=""/>
          <p:cNvCxnSpPr>
            <a:stCxn id="115" idx="3"/>
            <a:endCxn id="119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herapie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umarinderiva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attengif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040" y="549360"/>
            <a:ext cx="65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ptimierte Quick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xtrinsisches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System betroff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itamin-K-Wirk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kompetitive Hemmung von Vitamin 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tamin-K-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54800" y="549360"/>
            <a:ext cx="55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ptimierte Quick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xtrinsisches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System betroff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itamin-K-Wirk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itamin-K-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2" idx="3"/>
            <a:endCxn id="12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6" name=""/>
          <p:cNvCxnSpPr>
            <a:stCxn id="122" idx="3"/>
            <a:endCxn id="127" idx="1"/>
          </p:cNvCxnSpPr>
          <p:nvPr/>
        </p:nvCxnSpPr>
        <p:spPr>
          <a:xfrm>
            <a:off x="3313080" y="4080960"/>
            <a:ext cx="2689920" cy="6786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Resorption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7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419724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9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sorptio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24920" y="549360"/>
            <a:ext cx="58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ptimierte Quick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xtrinsisches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System betroff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itamin-K-Wirk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itamin-K-Mange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Resorpti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7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3"/>
            <a:endCxn id="13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3" name=""/>
          <p:cNvCxnSpPr>
            <a:stCxn id="129" idx="3"/>
            <a:endCxn id="134" idx="1"/>
          </p:cNvCxnSpPr>
          <p:nvPr/>
        </p:nvCxnSpPr>
        <p:spPr>
          <a:xfrm>
            <a:off x="3313080" y="4080960"/>
            <a:ext cx="2689920" cy="6786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ynthese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Darmbakterien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0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419724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Fettverdau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2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nthese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bakteri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89000" y="549360"/>
            <a:ext cx="77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ptimierte Quick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xtrinsisches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System betroff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itamin-K-Wirk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itamin-K-Mange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Resorption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ynthese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Darmbakteri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3"/>
            <a:endCxn id="139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6012000" y="352116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ysbakte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ysbakte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89000" y="549360"/>
            <a:ext cx="77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ptimierte Quick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xtrinsisches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System betroff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itamin-K-Wirk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itamin-K-Mange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Resorption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ynthese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Darmbakterien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Dysbakte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1" idx="3"/>
            <a:endCxn id="14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Antibiotik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orex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ttverdau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23840" y="549360"/>
            <a:ext cx="790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ptimierte Quick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xtrinsisches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System betroff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itamin-K-Wirk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itamin-K-Mange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Resorption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Fettverdau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6" idx="3"/>
            <a:endCxn id="149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ole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11:28:02Z</dcterms:modified>
  <cp:revision>334</cp:revision>
  <dc:subject/>
  <dc:title>Vorstellung einer Neuheit</dc:title>
</cp:coreProperties>
</file>